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5AB-AE93-40BA-AC5B-93431D83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0E0-FC6D-4A91-8FCB-E7194A2C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671-7FB0-4528-9DB6-340B49E5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671-C9ED-4F8E-973B-2CF9C76A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430-E697-4022-8E1D-A13295AC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8DB-9C19-4D72-9322-9D18353F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BA3-4F07-4472-A7D6-1E13072A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E06-9DD8-427D-82F1-E5DDCC2F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356-72FF-4871-9A01-D0778AF9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A54-06F3-4128-82E4-8733375A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469-E625-456A-9964-C192D7D5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9C7-F982-4787-BE98-93230EA2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31E5-5EEB-43E1-907F-AB9B5B61118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Calibri"/>
              </a:rPr>
              <a:t>Strategies For Agriculture In LEDC’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ood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od p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one of the most important industries in most LEDC's and agriculture is often still their main source of employ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increased, and with the environmental difficulties that many of these countries face, a number of strategies have been introduc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have been aimed at helping the farmers become firstly self-sufficient and then begin to allow them to make a prof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 it has not just been a case of the developed countries of the world throwing money at the problem, the solutions have had to be appropriate to the countries concern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ppropriate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nvolves small-scale projects that will help a community or maybe even individual subsistence farm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as include digging wells to provide water for irrigation, setting up projects that can be easily maintained and sustained by the local peopl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have not included bringing in large machines and expensive technology, as this can rarely be repaired when it goes wrong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use of renewable energy sources, such as wind power and biogas has been encouraged rather than huge HEP schem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Green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s involved developing new high yield crops, initially in Mexico, which were then used in countries such as Indi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ir effect was to increase yields dramatically, and sometimes allow an extra crop each year to grow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farmers quickly produced greater amounts of crops and there fore produced larger profit, from which they could buy improved machinery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re were some disadvantages of the scheme howeve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new seeds were very expensive to buy and required a lot of expensive fertilisers and pesticides to ensure that they grew properly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s meant that many of the poor farmers just couldn't afford the new crop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me farmers fell heavily into debt trying to finance buying the new crop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Irr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reen Revolu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nt the need of massive irrigation schem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ng series of canals took water to the field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anals were fairly cheap to set up but did cause problems of waterlogging and salinis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communities used deep wells instead of irrigation canals to water their crops, however this method could only really cater for a couple of hectares of lan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reen Revolu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me electric water pumps, which allowed one well to irrigate much larger areas of la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6:58:39Z</dcterms:created>
  <dc:creator>Dell_02</dc:creator>
  <dc:description/>
  <dc:language>en-US</dc:language>
  <cp:lastModifiedBy>Dell_02</cp:lastModifiedBy>
  <dcterms:modified xsi:type="dcterms:W3CDTF">2011-01-27T17:03:45Z</dcterms:modified>
  <cp:revision>1</cp:revision>
  <dc:subject/>
  <dc:title>Strategies For Agriculture In LEDC’s</dc:title>
</cp:coreProperties>
</file>